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0422CF9-1169-402C-9F8C-38959ABE22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21B6-ECB2-4D2F-944E-538ACA5A7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D6F5-EEEF-476A-BE35-81B10C003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A582-7506-436F-B832-F82CC04F8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CD11-F88E-4B4C-8CA0-D39CAE2E1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2DA9-51FC-4527-84D5-32F9B0351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0B9A-6CE1-4321-832A-8DCCA00D0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3995-512A-4B42-9676-1D67AD714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B12D-BF1B-4E00-963C-1D250BF2B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1A73-61C0-4A44-8D2F-F6740502A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E142-0062-4FB5-A970-BBBCA9FD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DD11-CEA1-4ACF-A5D1-91ABB693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929F-0C6D-4887-A437-D13A5F209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40FD-7D42-48FA-B2FE-93C5D7DE37E4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editn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rogram za otklanjanje 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osljedica  poplava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(FRCP)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atki pregled                               </a:t>
            </a:r>
            <a:r>
              <a:rPr b="1" lang="bs-BA" sz="1600" spc="-1" strike="noStrike">
                <a:solidFill>
                  <a:srgbClr val="ffffff"/>
                </a:solidFill>
                <a:latin typeface="Arial"/>
              </a:rPr>
              <a:t>Oktobar 2014. god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Oktobar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1B07-7839-4A83-9C3E-02046FAFDDD0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</a:t>
            </a: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faza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.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EU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okviru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vropskog fonda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B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snu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Her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cegovinu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;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primila 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.2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 EUR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d kraja ju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a u potpunosti isplaćeno krajnjim korisnicima do kraja oktobr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57E-7BE5-4019-BC02-8A6F22879E64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F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deralnog ministarstva za ekonomsku saradnju u razvoj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BMZ)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iznosu od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  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5 milion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će primiti 2.5 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Pokrivenost rizika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50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 svaki pod-zajam i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5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kupnog iznosa zajm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 2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polovica oktobr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21T09:21:20Z</dcterms:modified>
  <cp:revision>133</cp:revision>
  <dc:subject/>
  <dc:title>Präsentation</dc:title>
</cp:coreProperties>
</file>